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247-6F32-49C2-90AB-A27BFC7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F46-8A49-476A-B2A6-9F655E19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304-886D-449D-AB7F-036781D1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73E-75A6-4E7C-8A56-AA023DDC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7E6-4EB0-4FDD-8D42-7722E04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9FB-E4B7-4E7E-A306-2402DC9A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3FF-4CC6-45E6-B9A1-97AF7D5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C26-E3CE-49CE-B498-1050F8B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78A-7759-4448-B919-B5D8D027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527-706A-4031-8780-C9D9621C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144-2218-4F79-93DC-E62C5F6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BBD-443E-4BFD-95BC-20CF7C3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2966-603C-42DB-8AA4-9961BBB5A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8:40:34Z</dcterms:created>
  <dc:creator>Grupo Editorial</dc:creator>
  <dc:description/>
  <dc:language>en-US</dc:language>
  <cp:lastModifiedBy>Grupo Editorial</cp:lastModifiedBy>
  <dcterms:modified xsi:type="dcterms:W3CDTF">2001-11-16T08:42:26Z</dcterms:modified>
  <cp:revision>1</cp:revision>
  <dc:subject/>
  <dc:title>Sin título de diapositiva</dc:title>
</cp:coreProperties>
</file>